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5A82-B01A-4B3C-8C1E-65B0B25AD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B109-BCF0-436C-B461-3001D6671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CCB0-9696-4402-992D-2C70490D9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194C-1F36-4080-BED8-97276DE4C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5DF3-A9EA-4A46-ACD8-C75CA431B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BCCB-B612-4637-9D40-6EC021A06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6231-6E31-4B37-BC91-F601EE021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5078-97E6-4577-AE9F-0E053458B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88C6-975A-4DC4-B937-F3A69E59B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8E13-742B-47D9-BAC3-E079979AA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8BC0-D6FF-4887-9B8D-E2A1156F4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3BD0-2866-4996-9D31-81CB5059A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2" name="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B7D1-C2EB-4588-8FA3-61A5AE31E43F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34960" y="6521400"/>
            <a:ext cx="71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Stanford University</a:t>
            </a:r>
            <a:r>
              <a:rPr b="1" lang="ru-RU" sz="16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October 31,</a:t>
            </a:r>
            <a:r>
              <a:rPr b="1" lang="ru-RU" sz="1600" spc="-1" strike="noStrike">
                <a:solidFill>
                  <a:srgbClr val="008484"/>
                </a:solidFill>
                <a:latin typeface="Arial"/>
              </a:rPr>
              <a:t>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008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8537400" y="6501960"/>
            <a:ext cx="0" cy="203400"/>
          </a:xfrm>
          <a:prstGeom prst="line">
            <a:avLst/>
          </a:prstGeom>
          <a:ln w="19080">
            <a:solidFill>
              <a:srgbClr val="008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-95400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15880" y="1359000"/>
            <a:ext cx="6363000" cy="41367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0" y="0"/>
            <a:ext cx="5867280" cy="1371600"/>
            <a:chOff x="0" y="0"/>
            <a:chExt cx="5867280" cy="1371600"/>
          </a:xfrm>
        </p:grpSpPr>
        <p:sp>
          <p:nvSpPr>
            <p:cNvPr id="54" name=""/>
            <p:cNvSpPr/>
            <p:nvPr/>
          </p:nvSpPr>
          <p:spPr>
            <a:xfrm rot="16200000">
              <a:off x="2376360" y="-21193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-495000" y="4953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3520" y="101520"/>
            <a:ext cx="3578040" cy="9972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276720" y="5486400"/>
            <a:ext cx="5867280" cy="1371600"/>
            <a:chOff x="3276720" y="5486400"/>
            <a:chExt cx="5867280" cy="1371600"/>
          </a:xfrm>
        </p:grpSpPr>
        <p:sp>
          <p:nvSpPr>
            <p:cNvPr id="58" name=""/>
            <p:cNvSpPr/>
            <p:nvPr/>
          </p:nvSpPr>
          <p:spPr>
            <a:xfrm rot="5400000">
              <a:off x="5396040" y="33667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8267760" y="59817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495080"/>
            <a:ext cx="5994360" cy="390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3808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762120" algn="ctr">
              <a:spcBef>
                <a:spcPts val="374"/>
              </a:spcBef>
              <a:buClr>
                <a:srgbClr val="008484"/>
              </a:buClr>
              <a:buSzPct val="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047600" algn="ctr">
              <a:spcBef>
                <a:spcPts val="349"/>
              </a:spcBef>
              <a:buClr>
                <a:srgbClr val="008484"/>
              </a:buClr>
              <a:buSzPct val="4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333440" algn="ctr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dit.unitn.it/~p2p/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1495440"/>
            <a:ext cx="6119640" cy="341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484"/>
                </a:solidFill>
                <a:latin typeface="Arial"/>
              </a:rPr>
              <a:t>Semantic Matching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89040" y="3628800"/>
            <a:ext cx="62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Pavel Shvai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43320" y="5657760"/>
            <a:ext cx="238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Stanford University,</a:t>
            </a:r>
            <a:r>
              <a:rPr b="1" lang="ru-RU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October 31,</a:t>
            </a:r>
            <a:r>
              <a:rPr b="1" lang="ru-RU" sz="1600" spc="-1" strike="noStrike">
                <a:solidFill>
                  <a:srgbClr val="008484"/>
                </a:solidFill>
                <a:latin typeface="Arial"/>
              </a:rPr>
              <a:t>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8560" y="3917160"/>
            <a:ext cx="5910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Paper with Fausto Giunchig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46040" y="4556520"/>
            <a:ext cx="662148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8484"/>
                </a:solidFill>
                <a:latin typeface="Arial"/>
              </a:rPr>
              <a:t>Research group (alphabetically ordered)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8484"/>
                </a:solidFill>
                <a:latin typeface="Arial"/>
              </a:rPr>
              <a:t>Fausto Giunchiglia, Pavel Shvaiko, Mikalai Yatskevich, Ilya Zaihraye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18344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YNTAC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9F1A-C159-4BA0-828B-0EC3F128E6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yntac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09200" y="1707840"/>
            <a:ext cx="7759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 element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a 4-tuple 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lt;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m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D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L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L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R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&gt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 where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L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label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at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-th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first graph;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L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label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at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j-th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second graph;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R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specifies a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imilarity relation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n the form of a coefficient, which measures the similarity between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labels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of the given nodes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Example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: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R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a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imilarity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coefficient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n [0,1]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R</a:t>
            </a:r>
            <a:r>
              <a:rPr b="1" i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= &lt;m</a:t>
            </a:r>
            <a:r>
              <a:rPr b="1" lang="en-GB" sz="2000" spc="-1" strike="noStrike" baseline="-25000">
                <a:solidFill>
                  <a:srgbClr val="808080"/>
                </a:solidFill>
                <a:latin typeface="Arial"/>
                <a:ea typeface="Times New Roman"/>
              </a:rPr>
              <a:t>21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telephone, phone,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0.7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&gt;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C339-C89A-4A0B-B4DE-4B57B57BB2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The State of the Art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25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73160" indent="-17316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Cupid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20200" indent="-173520">
              <a:lnSpc>
                <a:spcPct val="90000"/>
              </a:lnSpc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Times New Roman"/>
                <a:ea typeface="Times New Roman"/>
              </a:rPr>
              <a:t>… </a:t>
            </a:r>
            <a:r>
              <a:rPr b="1" lang="en-US" sz="1800" spc="-1" strike="noStrike">
                <a:solidFill>
                  <a:srgbClr val="008484"/>
                </a:solidFill>
                <a:latin typeface="Times New Roman"/>
                <a:ea typeface="Times New Roman"/>
              </a:rPr>
              <a:t>is a hybrid </a:t>
            </a:r>
            <a:r>
              <a:rPr b="1" lang="en-US" sz="1800" spc="-1" strike="noStrike">
                <a:solidFill>
                  <a:srgbClr val="008484"/>
                </a:solidFill>
                <a:latin typeface="Times New Roman"/>
              </a:rPr>
              <a:t>matching prototype.</a:t>
            </a:r>
            <a:r>
              <a:rPr b="1" lang="en-US" sz="1800" spc="-1" strike="noStrike">
                <a:solidFill>
                  <a:srgbClr val="008484"/>
                </a:solidFill>
                <a:latin typeface="Times New Roman"/>
                <a:ea typeface="Times New Roman"/>
              </a:rPr>
              <a:t> It exploits linguistic and structural schema matching heuristics, and computes similarity coefficients between nodes of the trees.</a:t>
            </a:r>
            <a:r>
              <a:rPr b="1" lang="ru-RU" sz="15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1" marL="52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Similarity Flooding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20200" indent="-1735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8484"/>
                </a:solidFill>
                <a:latin typeface="Times New Roman"/>
              </a:rPr>
              <a:t>is a hybrid matching prototype. It uses fix-point computation to determine correspondences between nodes of the graphs.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COMA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20200" indent="-1735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Times New Roman"/>
              </a:rPr>
              <a:t>…</a:t>
            </a:r>
            <a:r>
              <a:rPr b="1" lang="en-US" sz="1800" spc="-1" strike="noStrike">
                <a:solidFill>
                  <a:srgbClr val="008484"/>
                </a:solidFill>
                <a:latin typeface="Times New Roman"/>
              </a:rPr>
              <a:t>is a composite matching prototype. It provides an extensible library of different matchers which manipulate DAGs and supports various ways of combining final results.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As far as we know, so far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nly syntactic matching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2ECA-5DF6-49E0-9909-455BBE75E6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183440" cy="38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4F2A-2AFC-4CF4-8831-14CECFFB85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09560" y="1432080"/>
            <a:ext cx="777240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 element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a 4-tuple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lt;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m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D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C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C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R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&gt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 where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concept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of the i-th node of the first graph;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concept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of the j-th node of the second graph;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R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specifies a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imilarity relation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n the form of a semantic relation between the extensions of concepts at the given node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Possible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R’s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: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ality {=},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lapping {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,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smatch {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,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re general/specific {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Example: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 &lt;m</a:t>
            </a:r>
            <a:r>
              <a:rPr b="1" lang="en-GB" sz="2000" spc="-1" strike="noStrike" baseline="-25000">
                <a:solidFill>
                  <a:srgbClr val="777777"/>
                </a:solidFill>
                <a:latin typeface="Arial"/>
                <a:ea typeface="Times New Roman"/>
              </a:rPr>
              <a:t>21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telephone, phone,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{=}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gt;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375A-07F8-467B-8CF6-A734C4EF77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Examples: Analysis of Ancestors. Case 1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25520" y="1996920"/>
            <a:ext cx="569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79600" y="3860640"/>
            <a:ext cx="74721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uppose that we want to match node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and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7520" y="1731960"/>
            <a:ext cx="613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63840" y="1362240"/>
          <a:ext cx="5607000" cy="269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3840" y="1362240"/>
                    <a:ext cx="560700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"/>
          <p:cNvGrpSpPr/>
          <p:nvPr/>
        </p:nvGrpSpPr>
        <p:grpSpPr>
          <a:xfrm>
            <a:off x="4097160" y="1755720"/>
            <a:ext cx="1636920" cy="1236600"/>
            <a:chOff x="4097160" y="1755720"/>
            <a:chExt cx="1636920" cy="1236600"/>
          </a:xfrm>
        </p:grpSpPr>
        <p:sp>
          <p:nvSpPr>
            <p:cNvPr id="190" name=""/>
            <p:cNvSpPr/>
            <p:nvPr/>
          </p:nvSpPr>
          <p:spPr>
            <a:xfrm>
              <a:off x="4097160" y="2649600"/>
              <a:ext cx="378000" cy="342720"/>
            </a:xfrm>
            <a:prstGeom prst="donut">
              <a:avLst>
                <a:gd name="adj" fmla="val 32351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56080" y="1755720"/>
              <a:ext cx="378000" cy="343080"/>
            </a:xfrm>
            <a:prstGeom prst="donut">
              <a:avLst>
                <a:gd name="adj" fmla="val 32351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473120" y="4241880"/>
            <a:ext cx="707400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Cupid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does not find a similarity coefficient between the nodes under consideration, due to the significant differences in structure of the given graphs</a:t>
            </a:r>
            <a:r>
              <a:rPr b="1" i="1" lang="en-GB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emantic matching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The concept denoted by the label at node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 while the concept at node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 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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The concept at node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 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Thus,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  </a:t>
            </a:r>
            <a:r>
              <a:rPr b="1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669C-AE15-40F6-8617-0B225D3A04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Examples: Analysis of Ancestors. Case 2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25520" y="1996920"/>
            <a:ext cx="569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22360" y="4091040"/>
            <a:ext cx="70372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uppose that we want to match node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76320" y="1515960"/>
            <a:ext cx="573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1506600"/>
          <a:ext cx="539244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506600"/>
                    <a:ext cx="539244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422360" y="4457880"/>
            <a:ext cx="70358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Cupid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R= 0,86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. This is because of the identity of labels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</a:t>
            </a:r>
            <a:r>
              <a:rPr b="0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GB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emantic matching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The concept at node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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; while the concept at node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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Since we have that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and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 then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175280" y="2760840"/>
            <a:ext cx="2544480" cy="1211040"/>
            <a:chOff x="4175280" y="2760840"/>
            <a:chExt cx="2544480" cy="1211040"/>
          </a:xfrm>
        </p:grpSpPr>
        <p:sp>
          <p:nvSpPr>
            <p:cNvPr id="201" name=""/>
            <p:cNvSpPr/>
            <p:nvPr/>
          </p:nvSpPr>
          <p:spPr>
            <a:xfrm>
              <a:off x="4175280" y="2760840"/>
              <a:ext cx="377640" cy="342720"/>
            </a:xfrm>
            <a:prstGeom prst="donut">
              <a:avLst>
                <a:gd name="adj" fmla="val 32351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42120" y="3629160"/>
              <a:ext cx="377640" cy="342720"/>
            </a:xfrm>
            <a:prstGeom prst="donut">
              <a:avLst>
                <a:gd name="adj" fmla="val 32351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7532-1D34-464E-8ECC-01D06F51D1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183440" cy="38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ON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IMPLEMENT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E425-DC8B-45DB-AC3D-8D333BEE52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On Implementation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728720" y="1755720"/>
            <a:ext cx="6934320" cy="2044080"/>
            <a:chOff x="1728720" y="1755720"/>
            <a:chExt cx="6934320" cy="2044080"/>
          </a:xfrm>
        </p:grpSpPr>
        <p:sp>
          <p:nvSpPr>
            <p:cNvPr id="207" name=""/>
            <p:cNvSpPr/>
            <p:nvPr/>
          </p:nvSpPr>
          <p:spPr>
            <a:xfrm>
              <a:off x="4991040" y="2174760"/>
              <a:ext cx="169920" cy="169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14680" y="1755720"/>
              <a:ext cx="32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Seman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02040" y="3195720"/>
              <a:ext cx="169560" cy="169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29360" y="3192480"/>
              <a:ext cx="169920" cy="169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43520" y="33400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Structure -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28720" y="3328920"/>
              <a:ext cx="26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Element -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187440" y="2343240"/>
              <a:ext cx="1818000" cy="83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37200" y="2343240"/>
              <a:ext cx="1854000" cy="86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699000" y="438300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ak Semantic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92520" y="5283360"/>
            <a:ext cx="29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rong Semantic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078000" y="3813120"/>
            <a:ext cx="725400" cy="1863720"/>
            <a:chOff x="3078000" y="3813120"/>
            <a:chExt cx="725400" cy="1863720"/>
          </a:xfrm>
        </p:grpSpPr>
        <p:sp>
          <p:nvSpPr>
            <p:cNvPr id="218" name=""/>
            <p:cNvSpPr/>
            <p:nvPr/>
          </p:nvSpPr>
          <p:spPr>
            <a:xfrm>
              <a:off x="3081240" y="3813120"/>
              <a:ext cx="0" cy="186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81240" y="4738680"/>
              <a:ext cx="72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78000" y="5661000"/>
              <a:ext cx="72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1912-1AFC-4767-878E-DBC0DF085F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Element-level 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5560" y="1792440"/>
            <a:ext cx="708336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61640" indent="-1616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ak Semantics Techniqu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485640" indent="-1620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alysis of strings {=} 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phone, telephone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=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485640" indent="-1620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alysis of data types {=,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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string, integer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</a:t>
            </a: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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integer, real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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485640" indent="-1620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alysis of soundex {=}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lt;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Fausto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 Phausto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=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61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61640" indent="-1616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Strong Semantics Techniques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485640" indent="-1620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Precompiled thesaurus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syn key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&lt;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Discount, Rebate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=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485640" indent="-1620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WordNet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2" marL="728280" indent="-806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Art_#1, Humanities_#1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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&gt;, where #1 … sense number 1 of the word </a:t>
            </a: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Art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according to WordNet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8BCF-0BD1-4F22-B511-AE5D48997A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8080" y="1801440"/>
            <a:ext cx="7669080" cy="37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Syntac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On Implementing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791C-9942-452C-B311-11FF207E65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Element-level Semantic Matching (cont.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6440" y="1757160"/>
            <a:ext cx="794844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Semantic Relations via WordNe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lity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ne concept is equal to another if there is at least one sense of the first concept, which is a synonym of the second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apping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ne concept is overlapped with the other if there are some senses in common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match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two concepts are mismatched if they have no sense in common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general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ne concept is more general then the other iff there exists at least one sense of the first concept that has a sense of the other as a hyponym or meronym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general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ne concept is less general than the other iff there exists at least one sense of the first concept that has a sense of the other concept as hypernym or as a holonym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8532-74EB-4212-8DC2-3A4FD4B8C9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tructure-level 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11200" y="1951200"/>
            <a:ext cx="7204320" cy="30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We translate the matching problem, namely the two graphs (in particular, the pair of nodes submitted to matching) into a propositional formula and then check for its validity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We check for validity using SAT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B018-42FB-471A-8061-42873AA573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0640" y="1290240"/>
            <a:ext cx="71312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Extract the two graph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ompute element-level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ompute concepts at nod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onstruct the propositional formula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Run S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Perform iterat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7473-D130-48C2-BEBD-FC950684E7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: Example – (1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10840" y="1382400"/>
            <a:ext cx="73962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7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xtract the two graphs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127240" y="2373480"/>
          <a:ext cx="5607000" cy="269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240" y="2373480"/>
                    <a:ext cx="560700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467000" y="4761000"/>
            <a:ext cx="745632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7680" indent="-247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n the case of RDB, XML and OODB schemas, it is necessary to extract useful semantic information, for instance in the form of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CC36-FD19-4E88-BBDF-36CFD5F046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: Example – (2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10840" y="1382400"/>
            <a:ext cx="711828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1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215280" indent="-2152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lement-level semantic matching.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For each node, compute semantic relations holding among all the concepts denoted by labels at nodes under consideration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537000" y="2624040"/>
          <a:ext cx="5607000" cy="269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37000" y="2624040"/>
                    <a:ext cx="5607000" cy="26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8" name=""/>
          <p:cNvGrpSpPr/>
          <p:nvPr/>
        </p:nvGrpSpPr>
        <p:grpSpPr>
          <a:xfrm>
            <a:off x="1506600" y="2590920"/>
            <a:ext cx="7270560" cy="2361960"/>
            <a:chOff x="1506600" y="2590920"/>
            <a:chExt cx="7270560" cy="2361960"/>
          </a:xfrm>
        </p:grpSpPr>
        <p:sp>
          <p:nvSpPr>
            <p:cNvPr id="239" name=""/>
            <p:cNvSpPr/>
            <p:nvPr/>
          </p:nvSpPr>
          <p:spPr>
            <a:xfrm>
              <a:off x="1506600" y="4510080"/>
              <a:ext cx="15541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47680" indent="-247680">
                <a:lnSpc>
                  <a:spcPct val="100000"/>
                </a:lnSpc>
                <a:spcBef>
                  <a:spcPts val="499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A</a:t>
              </a:r>
              <a:r>
                <a:rPr b="0" i="1" lang="en-US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=</a:t>
              </a:r>
              <a:r>
                <a:rPr b="0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A</a:t>
              </a:r>
              <a:r>
                <a:rPr b="0" i="1" lang="en-GB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99000" y="2590920"/>
              <a:ext cx="3278160" cy="1333440"/>
            </a:xfrm>
            <a:custGeom>
              <a:avLst/>
              <a:gdLst/>
              <a:ahLst/>
              <a:rect l="l" t="t" r="r" b="b"/>
              <a:pathLst>
                <a:path w="2065" h="840">
                  <a:moveTo>
                    <a:pt x="0" y="312"/>
                  </a:moveTo>
                  <a:cubicBezTo>
                    <a:pt x="105" y="280"/>
                    <a:pt x="417" y="171"/>
                    <a:pt x="632" y="120"/>
                  </a:cubicBezTo>
                  <a:cubicBezTo>
                    <a:pt x="847" y="69"/>
                    <a:pt x="1091" y="16"/>
                    <a:pt x="1288" y="8"/>
                  </a:cubicBezTo>
                  <a:cubicBezTo>
                    <a:pt x="1485" y="0"/>
                    <a:pt x="1687" y="11"/>
                    <a:pt x="1816" y="72"/>
                  </a:cubicBezTo>
                  <a:cubicBezTo>
                    <a:pt x="1945" y="133"/>
                    <a:pt x="2063" y="248"/>
                    <a:pt x="2064" y="376"/>
                  </a:cubicBezTo>
                  <a:cubicBezTo>
                    <a:pt x="2065" y="504"/>
                    <a:pt x="1874" y="743"/>
                    <a:pt x="1824" y="84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511280" y="4140360"/>
            <a:ext cx="6807240" cy="1320480"/>
            <a:chOff x="1511280" y="4140360"/>
            <a:chExt cx="6807240" cy="1320480"/>
          </a:xfrm>
        </p:grpSpPr>
        <p:sp>
          <p:nvSpPr>
            <p:cNvPr id="242" name=""/>
            <p:cNvSpPr/>
            <p:nvPr/>
          </p:nvSpPr>
          <p:spPr>
            <a:xfrm>
              <a:off x="4280040" y="4140360"/>
              <a:ext cx="4038480" cy="1320480"/>
            </a:xfrm>
            <a:custGeom>
              <a:avLst/>
              <a:gdLst/>
              <a:ahLst/>
              <a:rect l="l" t="t" r="r" b="b"/>
              <a:pathLst>
                <a:path w="2544" h="832">
                  <a:moveTo>
                    <a:pt x="0" y="0"/>
                  </a:moveTo>
                  <a:cubicBezTo>
                    <a:pt x="46" y="165"/>
                    <a:pt x="125" y="327"/>
                    <a:pt x="272" y="448"/>
                  </a:cubicBezTo>
                  <a:cubicBezTo>
                    <a:pt x="419" y="569"/>
                    <a:pt x="623" y="669"/>
                    <a:pt x="880" y="728"/>
                  </a:cubicBezTo>
                  <a:cubicBezTo>
                    <a:pt x="1137" y="787"/>
                    <a:pt x="1539" y="832"/>
                    <a:pt x="1816" y="800"/>
                  </a:cubicBezTo>
                  <a:cubicBezTo>
                    <a:pt x="2093" y="768"/>
                    <a:pt x="2392" y="591"/>
                    <a:pt x="2544" y="536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1280" y="4876920"/>
              <a:ext cx="148608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B</a:t>
              </a:r>
              <a:r>
                <a:rPr b="0" i="1" lang="en-US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=</a:t>
              </a:r>
              <a:r>
                <a:rPr b="0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B</a:t>
              </a:r>
              <a:r>
                <a:rPr b="0" i="1" lang="en-GB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523880" y="2997360"/>
            <a:ext cx="5854680" cy="2713680"/>
            <a:chOff x="1523880" y="2997360"/>
            <a:chExt cx="5854680" cy="2713680"/>
          </a:xfrm>
        </p:grpSpPr>
        <p:sp>
          <p:nvSpPr>
            <p:cNvPr id="245" name=""/>
            <p:cNvSpPr/>
            <p:nvPr/>
          </p:nvSpPr>
          <p:spPr>
            <a:xfrm>
              <a:off x="1523880" y="5257800"/>
              <a:ext cx="161316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=</a:t>
              </a:r>
              <a:r>
                <a:rPr b="0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GB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GB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GB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00800" y="2997360"/>
              <a:ext cx="977760" cy="1015920"/>
            </a:xfrm>
            <a:custGeom>
              <a:avLst/>
              <a:gdLst/>
              <a:ahLst/>
              <a:rect l="l" t="t" r="r" b="b"/>
              <a:pathLst>
                <a:path w="616" h="640">
                  <a:moveTo>
                    <a:pt x="0" y="640"/>
                  </a:moveTo>
                  <a:cubicBezTo>
                    <a:pt x="54" y="570"/>
                    <a:pt x="108" y="501"/>
                    <a:pt x="136" y="432"/>
                  </a:cubicBezTo>
                  <a:cubicBezTo>
                    <a:pt x="164" y="363"/>
                    <a:pt x="88" y="296"/>
                    <a:pt x="168" y="224"/>
                  </a:cubicBezTo>
                  <a:cubicBezTo>
                    <a:pt x="248" y="152"/>
                    <a:pt x="536" y="37"/>
                    <a:pt x="616" y="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523880" y="4457880"/>
            <a:ext cx="5537160" cy="1634040"/>
            <a:chOff x="1523880" y="4457880"/>
            <a:chExt cx="5537160" cy="1634040"/>
          </a:xfrm>
        </p:grpSpPr>
        <p:sp>
          <p:nvSpPr>
            <p:cNvPr id="248" name=""/>
            <p:cNvSpPr/>
            <p:nvPr/>
          </p:nvSpPr>
          <p:spPr>
            <a:xfrm>
              <a:off x="1523880" y="5638680"/>
              <a:ext cx="20196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D</a:t>
              </a:r>
              <a:r>
                <a:rPr b="0" i="1" lang="en-US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=</a:t>
              </a:r>
              <a:r>
                <a:rPr b="0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D</a:t>
              </a:r>
              <a:r>
                <a:rPr b="0" i="1" lang="en-GB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29200" y="4457880"/>
              <a:ext cx="2031840" cy="395280"/>
            </a:xfrm>
            <a:custGeom>
              <a:avLst/>
              <a:gdLst/>
              <a:ahLst/>
              <a:rect l="l" t="t" r="r" b="b"/>
              <a:pathLst>
                <a:path w="1280" h="249">
                  <a:moveTo>
                    <a:pt x="0" y="8"/>
                  </a:moveTo>
                  <a:cubicBezTo>
                    <a:pt x="201" y="128"/>
                    <a:pt x="403" y="249"/>
                    <a:pt x="616" y="248"/>
                  </a:cubicBezTo>
                  <a:cubicBezTo>
                    <a:pt x="829" y="247"/>
                    <a:pt x="1054" y="123"/>
                    <a:pt x="1280" y="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523880" y="4470480"/>
            <a:ext cx="6210360" cy="2002680"/>
            <a:chOff x="1523880" y="4470480"/>
            <a:chExt cx="6210360" cy="2002680"/>
          </a:xfrm>
        </p:grpSpPr>
        <p:sp>
          <p:nvSpPr>
            <p:cNvPr id="251" name=""/>
            <p:cNvSpPr/>
            <p:nvPr/>
          </p:nvSpPr>
          <p:spPr>
            <a:xfrm>
              <a:off x="1523880" y="6019920"/>
              <a:ext cx="190512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E</a:t>
              </a:r>
              <a:r>
                <a:rPr b="0" i="1" lang="en-US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=</a:t>
              </a:r>
              <a:r>
                <a:rPr b="0" lang="en-US" sz="20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 C</a:t>
              </a:r>
              <a:r>
                <a:rPr b="0" i="1" lang="en-US" sz="1200" spc="-1" strike="noStrike">
                  <a:solidFill>
                    <a:srgbClr val="777777"/>
                  </a:solidFill>
                  <a:latin typeface="Arial"/>
                  <a:ea typeface="Times New Roman"/>
                </a:rPr>
                <a:t>E</a:t>
              </a:r>
              <a:r>
                <a:rPr b="0" i="1" lang="en-GB" sz="2000" spc="-1" strike="noStrike" baseline="-30000">
                  <a:solidFill>
                    <a:srgbClr val="777777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89440" y="4470480"/>
              <a:ext cx="2044800" cy="411120"/>
            </a:xfrm>
            <a:custGeom>
              <a:avLst/>
              <a:gdLst/>
              <a:ahLst/>
              <a:rect l="l" t="t" r="r" b="b"/>
              <a:pathLst>
                <a:path w="1288" h="259">
                  <a:moveTo>
                    <a:pt x="0" y="16"/>
                  </a:moveTo>
                  <a:cubicBezTo>
                    <a:pt x="296" y="137"/>
                    <a:pt x="593" y="259"/>
                    <a:pt x="808" y="256"/>
                  </a:cubicBezTo>
                  <a:cubicBezTo>
                    <a:pt x="1023" y="253"/>
                    <a:pt x="1155" y="126"/>
                    <a:pt x="1288" y="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1DF0-E7B3-4910-821A-E96F1AA567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: Example – (3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10840" y="1382400"/>
            <a:ext cx="71787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45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mpute concepts at nodes.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Suppose, we want to find a semantic relation between nodes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5</a:t>
            </a:r>
            <a:r>
              <a:rPr b="1" i="1" lang="en-US" sz="2000" spc="-1" strike="noStrike" baseline="-25000">
                <a:solidFill>
                  <a:srgbClr val="777777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1</a:t>
            </a:r>
            <a:r>
              <a:rPr b="1" i="1" lang="en-US" sz="20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43160" y="2371680"/>
            <a:ext cx="5607000" cy="2690640"/>
            <a:chOff x="2243160" y="2371680"/>
            <a:chExt cx="5607000" cy="2690640"/>
          </a:xfrm>
        </p:grpSpPr>
        <p:graphicFrame>
          <p:nvGraphicFramePr>
            <p:cNvPr id="256" name=""/>
            <p:cNvGraphicFramePr/>
            <p:nvPr/>
          </p:nvGraphicFramePr>
          <p:xfrm>
            <a:off x="2243160" y="2371680"/>
            <a:ext cx="5607000" cy="26906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43160" y="2371680"/>
                      <a:ext cx="5607000" cy="26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58" name=""/>
            <p:cNvGrpSpPr/>
            <p:nvPr/>
          </p:nvGrpSpPr>
          <p:grpSpPr>
            <a:xfrm>
              <a:off x="4800600" y="2641680"/>
              <a:ext cx="1575000" cy="1350720"/>
              <a:chOff x="4800600" y="2641680"/>
              <a:chExt cx="1575000" cy="1350720"/>
            </a:xfrm>
          </p:grpSpPr>
          <p:sp>
            <p:nvSpPr>
              <p:cNvPr id="259" name=""/>
              <p:cNvSpPr/>
              <p:nvPr/>
            </p:nvSpPr>
            <p:spPr>
              <a:xfrm>
                <a:off x="6086520" y="2778120"/>
                <a:ext cx="289080" cy="295200"/>
              </a:xfrm>
              <a:prstGeom prst="donut">
                <a:avLst>
                  <a:gd name="adj" fmla="val 29717"/>
                </a:avLst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4800600" y="2641680"/>
                <a:ext cx="1257480" cy="1350720"/>
                <a:chOff x="4800600" y="2641680"/>
                <a:chExt cx="1257480" cy="13507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4800600" y="3659040"/>
                  <a:ext cx="335160" cy="333360"/>
                </a:xfrm>
                <a:prstGeom prst="donut">
                  <a:avLst>
                    <a:gd name="adj" fmla="val 29597"/>
                  </a:avLst>
                </a:prstGeom>
                <a:solidFill>
                  <a:srgbClr val="8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" name=""/>
                <p:cNvGrpSpPr/>
                <p:nvPr/>
              </p:nvGrpSpPr>
              <p:grpSpPr>
                <a:xfrm>
                  <a:off x="5021280" y="2641680"/>
                  <a:ext cx="1036800" cy="977760"/>
                  <a:chOff x="5021280" y="2641680"/>
                  <a:chExt cx="1036800" cy="9777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021280" y="2959200"/>
                    <a:ext cx="1036800" cy="66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3" h="456">
                        <a:moveTo>
                          <a:pt x="13" y="456"/>
                        </a:moveTo>
                        <a:cubicBezTo>
                          <a:pt x="6" y="354"/>
                          <a:pt x="0" y="252"/>
                          <a:pt x="93" y="176"/>
                        </a:cubicBezTo>
                        <a:cubicBezTo>
                          <a:pt x="186" y="100"/>
                          <a:pt x="493" y="31"/>
                          <a:pt x="573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800000"/>
                    </a:solidFill>
                    <a:round/>
                    <a:headEnd len="lg" type="stealth" w="sm"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194440" y="2641680"/>
                    <a:ext cx="469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800000"/>
                        </a:solidFill>
                        <a:latin typeface="Arial"/>
                      </a:rPr>
                      <a:t>?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65" name=""/>
          <p:cNvSpPr/>
          <p:nvPr/>
        </p:nvSpPr>
        <p:spPr>
          <a:xfrm>
            <a:off x="1506600" y="4581360"/>
            <a:ext cx="28242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7680" indent="-247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GB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GB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=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16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6587-645D-4A70-8808-F1B7698D1B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: Example – (4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10840" y="1382400"/>
            <a:ext cx="71787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nstruct the propositional formula.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We translate all the semantic relations computed in step 2 into propositional formulas under the following rules: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92440" y="2684520"/>
            <a:ext cx="334296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77777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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77777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77777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=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</a:t>
            </a:r>
            <a:r>
              <a:rPr b="0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it-IT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it-IT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it-IT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25"/>
              </a:spcBef>
              <a:buClr>
                <a:srgbClr val="77777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en-US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en-US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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en-US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en-US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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(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en-US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en-US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1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777777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0" i="1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C</a:t>
            </a:r>
            <a:r>
              <a:rPr b="0" i="1" lang="en-US" sz="11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</a:t>
            </a:r>
            <a:r>
              <a:rPr b="0" i="1" lang="en-US" sz="1700" spc="-1" strike="noStrike" baseline="-30000">
                <a:solidFill>
                  <a:srgbClr val="777777"/>
                </a:solidFill>
                <a:latin typeface="Times New Roman"/>
                <a:ea typeface="Times New Roman"/>
              </a:rPr>
              <a:t>2</a:t>
            </a:r>
            <a:r>
              <a:rPr b="0" lang="en-US" sz="17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776840" y="2549520"/>
            <a:ext cx="4405320" cy="2063520"/>
            <a:chOff x="4776840" y="2549520"/>
            <a:chExt cx="4405320" cy="2063520"/>
          </a:xfrm>
        </p:grpSpPr>
        <p:graphicFrame>
          <p:nvGraphicFramePr>
            <p:cNvPr id="270" name=""/>
            <p:cNvGraphicFramePr/>
            <p:nvPr/>
          </p:nvGraphicFramePr>
          <p:xfrm>
            <a:off x="4776840" y="2549520"/>
            <a:ext cx="4405320" cy="2063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76840" y="2549520"/>
                      <a:ext cx="4405320" cy="206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"/>
            <p:cNvSpPr/>
            <p:nvPr/>
          </p:nvSpPr>
          <p:spPr>
            <a:xfrm>
              <a:off x="6800760" y="3565440"/>
              <a:ext cx="219240" cy="209520"/>
            </a:xfrm>
            <a:prstGeom prst="donut">
              <a:avLst>
                <a:gd name="adj" fmla="val 29708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96160" y="2869920"/>
              <a:ext cx="219240" cy="209520"/>
            </a:xfrm>
            <a:prstGeom prst="donut">
              <a:avLst>
                <a:gd name="adj" fmla="val 29708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96240" y="2989080"/>
              <a:ext cx="766800" cy="581040"/>
            </a:xfrm>
            <a:custGeom>
              <a:avLst/>
              <a:gdLst/>
              <a:ahLst/>
              <a:rect l="l" t="t" r="r" b="b"/>
              <a:pathLst>
                <a:path w="483" h="366">
                  <a:moveTo>
                    <a:pt x="0" y="366"/>
                  </a:moveTo>
                  <a:cubicBezTo>
                    <a:pt x="48" y="324"/>
                    <a:pt x="97" y="283"/>
                    <a:pt x="120" y="243"/>
                  </a:cubicBezTo>
                  <a:cubicBezTo>
                    <a:pt x="143" y="203"/>
                    <a:pt x="75" y="166"/>
                    <a:pt x="135" y="126"/>
                  </a:cubicBezTo>
                  <a:cubicBezTo>
                    <a:pt x="195" y="86"/>
                    <a:pt x="425" y="21"/>
                    <a:pt x="483" y="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20080" y="2855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436760" y="3940200"/>
            <a:ext cx="66722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7680" indent="-247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From step 2 we have: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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GB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 want to prove that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( we guess relation between nodes at this st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3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(</a:t>
            </a:r>
            <a:r>
              <a:rPr b="0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3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</a:t>
            </a:r>
            <a:r>
              <a:rPr b="0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(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A175-BF54-4B67-9D5E-F405704EF6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Semantic Matching Algorithm: Example – (5)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11200" y="1382400"/>
            <a:ext cx="709632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7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Run SAT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n order to prove that 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</a:t>
            </a:r>
            <a:r>
              <a:rPr b="0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(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 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valid, we prove that its negation is unsatisfiabile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</a:t>
            </a:r>
            <a:r>
              <a:rPr b="0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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((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A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12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777777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SAT returns FALSE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-24768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Thus,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5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C</a:t>
            </a:r>
            <a:r>
              <a:rPr b="1" i="1" lang="en-US" sz="10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1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endParaRPr b="1" lang="en-US" sz="1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4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9360" y="3990960"/>
            <a:ext cx="69134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7680" indent="-247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-247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B14C-422D-479D-9960-986567083E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pid vs.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371600" y="1403280"/>
            <a:ext cx="7675560" cy="4926600"/>
            <a:chOff x="1371600" y="1403280"/>
            <a:chExt cx="7675560" cy="4926600"/>
          </a:xfrm>
        </p:grpSpPr>
        <p:grpSp>
          <p:nvGrpSpPr>
            <p:cNvPr id="282" name=""/>
            <p:cNvGrpSpPr/>
            <p:nvPr/>
          </p:nvGrpSpPr>
          <p:grpSpPr>
            <a:xfrm>
              <a:off x="1371600" y="1417680"/>
              <a:ext cx="3392280" cy="4583520"/>
              <a:chOff x="1371600" y="1417680"/>
              <a:chExt cx="3392280" cy="458352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1371600" y="1887480"/>
                <a:ext cx="3392280" cy="4113720"/>
                <a:chOff x="1371600" y="1887480"/>
                <a:chExt cx="3392280" cy="41137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412720" y="1887480"/>
                  <a:ext cx="89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Ar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690640" y="3528720"/>
                  <a:ext cx="2073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Organiza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69920" y="2649240"/>
                  <a:ext cx="1754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Art Histor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87" name=""/>
                <p:cNvCxnSpPr>
                  <a:stCxn id="284" idx="2"/>
                  <a:endCxn id="286" idx="0"/>
                </p:cNvCxnSpPr>
                <p:nvPr/>
              </p:nvCxnSpPr>
              <p:spPr>
                <a:xfrm>
                  <a:off x="2860200" y="2284200"/>
                  <a:ext cx="888120" cy="3657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88" name=""/>
                <p:cNvCxnSpPr>
                  <a:stCxn id="286" idx="2"/>
                  <a:endCxn id="285" idx="0"/>
                </p:cNvCxnSpPr>
                <p:nvPr/>
              </p:nvCxnSpPr>
              <p:spPr>
                <a:xfrm flipH="1">
                  <a:off x="3727080" y="3046320"/>
                  <a:ext cx="20880" cy="48312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89" name=""/>
                <p:cNvSpPr/>
                <p:nvPr/>
              </p:nvSpPr>
              <p:spPr>
                <a:xfrm>
                  <a:off x="1466640" y="3030480"/>
                  <a:ext cx="103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Musi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90" name=""/>
                <p:cNvCxnSpPr>
                  <a:stCxn id="284" idx="2"/>
                  <a:endCxn id="289" idx="0"/>
                </p:cNvCxnSpPr>
                <p:nvPr/>
              </p:nvCxnSpPr>
              <p:spPr>
                <a:xfrm flipH="1">
                  <a:off x="1981800" y="2283840"/>
                  <a:ext cx="878760" cy="74700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91" name=""/>
                <p:cNvSpPr/>
                <p:nvPr/>
              </p:nvSpPr>
              <p:spPr>
                <a:xfrm>
                  <a:off x="1371600" y="5602320"/>
                  <a:ext cx="1292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Baroq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407960" y="4335480"/>
                  <a:ext cx="12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Histor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93" name=""/>
                <p:cNvCxnSpPr>
                  <a:stCxn id="292" idx="2"/>
                  <a:endCxn id="291" idx="0"/>
                </p:cNvCxnSpPr>
                <p:nvPr/>
              </p:nvCxnSpPr>
              <p:spPr>
                <a:xfrm>
                  <a:off x="2010960" y="4731840"/>
                  <a:ext cx="6840" cy="8708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94" name=""/>
                <p:cNvCxnSpPr>
                  <a:stCxn id="289" idx="2"/>
                </p:cNvCxnSpPr>
                <p:nvPr/>
              </p:nvCxnSpPr>
              <p:spPr>
                <a:xfrm flipH="1">
                  <a:off x="1966320" y="3426840"/>
                  <a:ext cx="16560" cy="90900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295" name=""/>
              <p:cNvSpPr/>
              <p:nvPr/>
            </p:nvSpPr>
            <p:spPr>
              <a:xfrm>
                <a:off x="1876320" y="1417680"/>
                <a:ext cx="232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484"/>
                    </a:solidFill>
                    <a:latin typeface="Arial"/>
                  </a:rPr>
                  <a:t>www.google.c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010120" y="1403280"/>
              <a:ext cx="4037040" cy="4926600"/>
              <a:chOff x="5010120" y="1403280"/>
              <a:chExt cx="4037040" cy="4926600"/>
            </a:xfrm>
          </p:grpSpPr>
          <p:sp>
            <p:nvSpPr>
              <p:cNvPr id="297" name=""/>
              <p:cNvSpPr/>
              <p:nvPr/>
            </p:nvSpPr>
            <p:spPr>
              <a:xfrm>
                <a:off x="5010120" y="3525840"/>
                <a:ext cx="195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Organization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996160" y="186228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rts&amp;Humaniti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59520" y="2624040"/>
                <a:ext cx="176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rt Hist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0" name=""/>
              <p:cNvCxnSpPr>
                <a:stCxn id="298" idx="2"/>
                <a:endCxn id="299" idx="0"/>
              </p:cNvCxnSpPr>
              <p:nvPr/>
            </p:nvCxnSpPr>
            <p:spPr>
              <a:xfrm flipH="1">
                <a:off x="6041880" y="2259000"/>
                <a:ext cx="1242000" cy="365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1" name=""/>
              <p:cNvCxnSpPr>
                <a:stCxn id="299" idx="2"/>
                <a:endCxn id="297" idx="0"/>
              </p:cNvCxnSpPr>
              <p:nvPr/>
            </p:nvCxnSpPr>
            <p:spPr>
              <a:xfrm flipH="1">
                <a:off x="5989320" y="3021120"/>
                <a:ext cx="53280" cy="5054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2" name=""/>
              <p:cNvCxnSpPr>
                <a:stCxn id="298" idx="2"/>
              </p:cNvCxnSpPr>
              <p:nvPr/>
            </p:nvCxnSpPr>
            <p:spPr>
              <a:xfrm>
                <a:off x="7283520" y="2259000"/>
                <a:ext cx="1037520" cy="7452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3" name=""/>
              <p:cNvSpPr/>
              <p:nvPr/>
            </p:nvSpPr>
            <p:spPr>
              <a:xfrm>
                <a:off x="6113520" y="1403280"/>
                <a:ext cx="201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484"/>
                    </a:solidFill>
                    <a:latin typeface="Arial"/>
                  </a:rPr>
                  <a:t>www.yahoo.c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67760" y="3063960"/>
                <a:ext cx="167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Design A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5360" y="5931000"/>
                <a:ext cx="139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Baroq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267680" y="3916440"/>
                <a:ext cx="177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rchitec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7" name=""/>
              <p:cNvCxnSpPr>
                <a:stCxn id="306" idx="2"/>
                <a:endCxn id="308" idx="0"/>
              </p:cNvCxnSpPr>
              <p:nvPr/>
            </p:nvCxnSpPr>
            <p:spPr>
              <a:xfrm>
                <a:off x="8158320" y="4312800"/>
                <a:ext cx="10080" cy="63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"/>
              <p:cNvCxnSpPr>
                <a:stCxn id="304" idx="2"/>
              </p:cNvCxnSpPr>
              <p:nvPr/>
            </p:nvCxnSpPr>
            <p:spPr>
              <a:xfrm>
                <a:off x="8204400" y="3460680"/>
                <a:ext cx="8640" cy="456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8" name=""/>
              <p:cNvSpPr/>
              <p:nvPr/>
            </p:nvSpPr>
            <p:spPr>
              <a:xfrm>
                <a:off x="7581960" y="4943520"/>
                <a:ext cx="117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Hist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308" idx="2"/>
              </p:cNvCxnSpPr>
              <p:nvPr/>
            </p:nvCxnSpPr>
            <p:spPr>
              <a:xfrm>
                <a:off x="8167320" y="5340240"/>
                <a:ext cx="10440" cy="635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11" name=""/>
          <p:cNvGrpSpPr/>
          <p:nvPr/>
        </p:nvGrpSpPr>
        <p:grpSpPr>
          <a:xfrm>
            <a:off x="2563920" y="3921120"/>
            <a:ext cx="4989240" cy="2584440"/>
            <a:chOff x="2563920" y="3921120"/>
            <a:chExt cx="4989240" cy="2584440"/>
          </a:xfrm>
        </p:grpSpPr>
        <p:sp>
          <p:nvSpPr>
            <p:cNvPr id="312" name=""/>
            <p:cNvSpPr/>
            <p:nvPr/>
          </p:nvSpPr>
          <p:spPr>
            <a:xfrm>
              <a:off x="2563920" y="5869080"/>
              <a:ext cx="4989240" cy="636480"/>
            </a:xfrm>
            <a:custGeom>
              <a:avLst/>
              <a:gdLst/>
              <a:ahLst/>
              <a:rect l="l" t="t" r="r" b="b"/>
              <a:pathLst>
                <a:path w="3195" h="401">
                  <a:moveTo>
                    <a:pt x="0" y="0"/>
                  </a:moveTo>
                  <a:cubicBezTo>
                    <a:pt x="206" y="61"/>
                    <a:pt x="710" y="333"/>
                    <a:pt x="1242" y="367"/>
                  </a:cubicBezTo>
                  <a:cubicBezTo>
                    <a:pt x="1774" y="401"/>
                    <a:pt x="2788" y="236"/>
                    <a:pt x="3195" y="20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68760" y="3921120"/>
              <a:ext cx="2327400" cy="301680"/>
            </a:xfrm>
            <a:custGeom>
              <a:avLst/>
              <a:gdLst/>
              <a:ahLst/>
              <a:rect l="l" t="t" r="r" b="b"/>
              <a:pathLst>
                <a:path w="1466" h="190">
                  <a:moveTo>
                    <a:pt x="0" y="15"/>
                  </a:moveTo>
                  <a:cubicBezTo>
                    <a:pt x="116" y="44"/>
                    <a:pt x="452" y="190"/>
                    <a:pt x="696" y="187"/>
                  </a:cubicBezTo>
                  <a:cubicBezTo>
                    <a:pt x="940" y="184"/>
                    <a:pt x="1306" y="39"/>
                    <a:pt x="1466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367000" y="1479600"/>
            <a:ext cx="5256000" cy="4578480"/>
            <a:chOff x="2367000" y="1479600"/>
            <a:chExt cx="5256000" cy="4578480"/>
          </a:xfrm>
        </p:grpSpPr>
        <p:grpSp>
          <p:nvGrpSpPr>
            <p:cNvPr id="315" name=""/>
            <p:cNvGrpSpPr/>
            <p:nvPr/>
          </p:nvGrpSpPr>
          <p:grpSpPr>
            <a:xfrm>
              <a:off x="2600280" y="5156280"/>
              <a:ext cx="4927680" cy="890640"/>
              <a:chOff x="2600280" y="5156280"/>
              <a:chExt cx="4927680" cy="890640"/>
            </a:xfrm>
          </p:grpSpPr>
          <p:sp>
            <p:nvSpPr>
              <p:cNvPr id="316" name=""/>
              <p:cNvSpPr/>
              <p:nvPr/>
            </p:nvSpPr>
            <p:spPr>
              <a:xfrm>
                <a:off x="2600280" y="5522760"/>
                <a:ext cx="4927680" cy="524160"/>
              </a:xfrm>
              <a:custGeom>
                <a:avLst/>
                <a:gdLst/>
                <a:ahLst/>
                <a:rect l="l" t="t" r="r" b="b"/>
                <a:pathLst>
                  <a:path w="3104" h="330">
                    <a:moveTo>
                      <a:pt x="0" y="143"/>
                    </a:moveTo>
                    <a:cubicBezTo>
                      <a:pt x="239" y="125"/>
                      <a:pt x="919" y="0"/>
                      <a:pt x="1436" y="31"/>
                    </a:cubicBezTo>
                    <a:cubicBezTo>
                      <a:pt x="1953" y="62"/>
                      <a:pt x="2757" y="268"/>
                      <a:pt x="3104" y="330"/>
                    </a:cubicBez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99120" y="5156280"/>
                <a:ext cx="85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{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Symbol"/>
                    <a:ea typeface="Symbol"/>
                  </a:rPr>
                  <a:t>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811680" y="3016440"/>
              <a:ext cx="2136600" cy="620640"/>
              <a:chOff x="3811680" y="3016440"/>
              <a:chExt cx="2136600" cy="62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3811680" y="3368520"/>
                <a:ext cx="2136600" cy="268560"/>
              </a:xfrm>
              <a:custGeom>
                <a:avLst/>
                <a:gdLst/>
                <a:ahLst/>
                <a:rect l="l" t="t" r="r" b="b"/>
                <a:pathLst>
                  <a:path w="1346" h="169">
                    <a:moveTo>
                      <a:pt x="0" y="146"/>
                    </a:moveTo>
                    <a:cubicBezTo>
                      <a:pt x="112" y="122"/>
                      <a:pt x="449" y="0"/>
                      <a:pt x="673" y="4"/>
                    </a:cubicBezTo>
                    <a:cubicBezTo>
                      <a:pt x="897" y="8"/>
                      <a:pt x="1206" y="135"/>
                      <a:pt x="1346" y="169"/>
                    </a:cubicBez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51400" y="3016440"/>
                <a:ext cx="85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{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Symbol"/>
                    <a:ea typeface="Symbol"/>
                  </a:rPr>
                  <a:t>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367000" y="2982960"/>
              <a:ext cx="5256000" cy="2197080"/>
              <a:chOff x="2367000" y="2982960"/>
              <a:chExt cx="5256000" cy="219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2367000" y="2982960"/>
                <a:ext cx="5256000" cy="2197080"/>
              </a:xfrm>
              <a:custGeom>
                <a:avLst/>
                <a:gdLst/>
                <a:ahLst/>
                <a:rect l="l" t="t" r="r" b="b"/>
                <a:pathLst>
                  <a:path w="3311" h="1384">
                    <a:moveTo>
                      <a:pt x="401" y="0"/>
                    </a:moveTo>
                    <a:cubicBezTo>
                      <a:pt x="351" y="109"/>
                      <a:pt x="0" y="458"/>
                      <a:pt x="102" y="651"/>
                    </a:cubicBezTo>
                    <a:cubicBezTo>
                      <a:pt x="204" y="844"/>
                      <a:pt x="480" y="1038"/>
                      <a:pt x="1015" y="1160"/>
                    </a:cubicBezTo>
                    <a:cubicBezTo>
                      <a:pt x="1550" y="1282"/>
                      <a:pt x="2833" y="1337"/>
                      <a:pt x="3311" y="1384"/>
                    </a:cubicBez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294080" y="4559400"/>
                <a:ext cx="89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{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Symbol"/>
                    <a:ea typeface="Symbol"/>
                  </a:rPr>
                  <a:t>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811680" y="2063880"/>
              <a:ext cx="2136600" cy="620640"/>
              <a:chOff x="3811680" y="2063880"/>
              <a:chExt cx="2136600" cy="620640"/>
            </a:xfrm>
          </p:grpSpPr>
          <p:sp>
            <p:nvSpPr>
              <p:cNvPr id="325" name=""/>
              <p:cNvSpPr/>
              <p:nvPr/>
            </p:nvSpPr>
            <p:spPr>
              <a:xfrm>
                <a:off x="3811680" y="2415960"/>
                <a:ext cx="2136600" cy="268560"/>
              </a:xfrm>
              <a:custGeom>
                <a:avLst/>
                <a:gdLst/>
                <a:ahLst/>
                <a:rect l="l" t="t" r="r" b="b"/>
                <a:pathLst>
                  <a:path w="1346" h="169">
                    <a:moveTo>
                      <a:pt x="0" y="146"/>
                    </a:moveTo>
                    <a:cubicBezTo>
                      <a:pt x="112" y="122"/>
                      <a:pt x="449" y="0"/>
                      <a:pt x="673" y="4"/>
                    </a:cubicBezTo>
                    <a:cubicBezTo>
                      <a:pt x="897" y="8"/>
                      <a:pt x="1206" y="135"/>
                      <a:pt x="1346" y="169"/>
                    </a:cubicBez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51400" y="2063880"/>
                <a:ext cx="85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{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Symbol"/>
                    <a:ea typeface="Symbol"/>
                  </a:rPr>
                  <a:t></a:t>
                </a: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2727360" y="2933640"/>
              <a:ext cx="4481640" cy="3124440"/>
            </a:xfrm>
            <a:custGeom>
              <a:avLst/>
              <a:gdLst/>
              <a:ahLst/>
              <a:rect l="l" t="t" r="r" b="b"/>
              <a:pathLst>
                <a:path w="2823" h="1968">
                  <a:moveTo>
                    <a:pt x="0" y="1840"/>
                  </a:moveTo>
                  <a:cubicBezTo>
                    <a:pt x="260" y="1853"/>
                    <a:pt x="1157" y="1968"/>
                    <a:pt x="1560" y="1920"/>
                  </a:cubicBezTo>
                  <a:cubicBezTo>
                    <a:pt x="1963" y="1872"/>
                    <a:pt x="2208" y="1747"/>
                    <a:pt x="2416" y="1552"/>
                  </a:cubicBezTo>
                  <a:cubicBezTo>
                    <a:pt x="2624" y="1357"/>
                    <a:pt x="2793" y="1011"/>
                    <a:pt x="2808" y="752"/>
                  </a:cubicBezTo>
                  <a:cubicBezTo>
                    <a:pt x="2823" y="493"/>
                    <a:pt x="2567" y="157"/>
                    <a:pt x="2504" y="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75400" y="439416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{</a:t>
              </a:r>
              <a:r>
                <a:rPr b="0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</a:t>
              </a: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76640" y="1827360"/>
              <a:ext cx="2816280" cy="272880"/>
            </a:xfrm>
            <a:custGeom>
              <a:avLst/>
              <a:gdLst/>
              <a:ahLst/>
              <a:rect l="l" t="t" r="r" b="b"/>
              <a:pathLst>
                <a:path w="1346" h="169">
                  <a:moveTo>
                    <a:pt x="0" y="146"/>
                  </a:moveTo>
                  <a:cubicBezTo>
                    <a:pt x="112" y="122"/>
                    <a:pt x="449" y="0"/>
                    <a:pt x="673" y="4"/>
                  </a:cubicBezTo>
                  <a:cubicBezTo>
                    <a:pt x="897" y="8"/>
                    <a:pt x="1206" y="135"/>
                    <a:pt x="1346" y="169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21080" y="1479600"/>
              <a:ext cx="63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{</a:t>
              </a:r>
              <a:r>
                <a:rPr b="0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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1BE5-46E9-4DF5-B703-4AD217824C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 have made a rational reconstruction of the major matching problems and articulated them in terms of the more generic problem of matching graphs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 have identified semantic matching as a new approach for performing generic matching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 have proposed an implementation of semantic matching using SAT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5836-9B91-4D44-A1B6-0747CA5EE1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18344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5A11-92F0-4743-8409-FB57B5506F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Future Work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Extend to a full graph matcher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How to extract semantics from schema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Study how to take into account attributes and instanc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Develop an efficient implementation of the system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Do a thorough testing of the system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174F-F191-48A6-B900-0AB3545A0A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Reference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6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Project website: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dit.unitn.it/~p2p/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F. Giunchiglia, P.Shvaiko “Semantic Matching”. Technical Report #DIT-03-013. Also to appear in The Knowledge Engineering Review journal. Short version in proceedings of Semantic Integration workshop at ISWC’03.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F. Giunchiglia, I. Zaihrayeu “Making peer databases interact – a vision for an architecture supporting data coordination”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</a:rPr>
              <a:t>In Proc. Of the Conference of Information Agents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 (CIA 2002), Madrid, 2002.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37DA-1815-415C-844D-E663D2F1DB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Application Domain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77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Generic Model Managemen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Schema integration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Data warehouse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E-commerce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Data Coordination in P2P systems, Semantic Web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CAE9-CEBB-4725-B25E-1E6E576DDC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484"/>
                </a:solidFill>
                <a:latin typeface="Arial"/>
              </a:rPr>
              <a:t>Example of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36680" y="1557360"/>
            <a:ext cx="3392280" cy="4583520"/>
            <a:chOff x="1336680" y="1557360"/>
            <a:chExt cx="3392280" cy="4583520"/>
          </a:xfrm>
        </p:grpSpPr>
        <p:grpSp>
          <p:nvGrpSpPr>
            <p:cNvPr id="111" name=""/>
            <p:cNvGrpSpPr/>
            <p:nvPr/>
          </p:nvGrpSpPr>
          <p:grpSpPr>
            <a:xfrm>
              <a:off x="1336680" y="2027160"/>
              <a:ext cx="3392280" cy="4113720"/>
              <a:chOff x="1336680" y="2027160"/>
              <a:chExt cx="3392280" cy="411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377800" y="2027160"/>
                <a:ext cx="89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r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55720" y="3668400"/>
                <a:ext cx="207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Organiz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35000" y="2788920"/>
                <a:ext cx="175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rt Hist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5" name=""/>
              <p:cNvCxnSpPr>
                <a:stCxn id="112" idx="2"/>
                <a:endCxn id="114" idx="0"/>
              </p:cNvCxnSpPr>
              <p:nvPr/>
            </p:nvCxnSpPr>
            <p:spPr>
              <a:xfrm>
                <a:off x="2825280" y="2423880"/>
                <a:ext cx="888120" cy="3657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16" name=""/>
              <p:cNvCxnSpPr>
                <a:stCxn id="114" idx="2"/>
                <a:endCxn id="113" idx="0"/>
              </p:cNvCxnSpPr>
              <p:nvPr/>
            </p:nvCxnSpPr>
            <p:spPr>
              <a:xfrm flipH="1">
                <a:off x="3692160" y="3186000"/>
                <a:ext cx="20880" cy="4831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7" name=""/>
              <p:cNvSpPr/>
              <p:nvPr/>
            </p:nvSpPr>
            <p:spPr>
              <a:xfrm>
                <a:off x="1431720" y="3170160"/>
                <a:ext cx="103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Musi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8" name=""/>
              <p:cNvCxnSpPr>
                <a:stCxn id="112" idx="2"/>
                <a:endCxn id="117" idx="0"/>
              </p:cNvCxnSpPr>
              <p:nvPr/>
            </p:nvCxnSpPr>
            <p:spPr>
              <a:xfrm flipH="1">
                <a:off x="1946880" y="2423520"/>
                <a:ext cx="878760" cy="7470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1336680" y="5742000"/>
                <a:ext cx="1292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Baroq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373040" y="4475160"/>
                <a:ext cx="12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Hist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1" name=""/>
              <p:cNvCxnSpPr>
                <a:stCxn id="120" idx="2"/>
                <a:endCxn id="119" idx="0"/>
              </p:cNvCxnSpPr>
              <p:nvPr/>
            </p:nvCxnSpPr>
            <p:spPr>
              <a:xfrm>
                <a:off x="1976040" y="4871520"/>
                <a:ext cx="6840" cy="8708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2" name=""/>
              <p:cNvCxnSpPr>
                <a:stCxn id="117" idx="2"/>
              </p:cNvCxnSpPr>
              <p:nvPr/>
            </p:nvCxnSpPr>
            <p:spPr>
              <a:xfrm flipH="1">
                <a:off x="1931400" y="3566520"/>
                <a:ext cx="16560" cy="9090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23" name=""/>
            <p:cNvSpPr/>
            <p:nvPr/>
          </p:nvSpPr>
          <p:spPr>
            <a:xfrm>
              <a:off x="1841400" y="1557360"/>
              <a:ext cx="232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484"/>
                  </a:solidFill>
                  <a:latin typeface="Arial"/>
                </a:rPr>
                <a:t>www.google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975200" y="1542960"/>
            <a:ext cx="4037040" cy="4926600"/>
            <a:chOff x="4975200" y="1542960"/>
            <a:chExt cx="4037040" cy="4926600"/>
          </a:xfrm>
        </p:grpSpPr>
        <p:sp>
          <p:nvSpPr>
            <p:cNvPr id="125" name=""/>
            <p:cNvSpPr/>
            <p:nvPr/>
          </p:nvSpPr>
          <p:spPr>
            <a:xfrm>
              <a:off x="4975200" y="366552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Organization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61240" y="200196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Arts&amp;Human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24600" y="2763720"/>
              <a:ext cx="17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Art His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6" idx="2"/>
              <a:endCxn id="127" idx="0"/>
            </p:cNvCxnSpPr>
            <p:nvPr/>
          </p:nvCxnSpPr>
          <p:spPr>
            <a:xfrm flipH="1">
              <a:off x="6006960" y="2398680"/>
              <a:ext cx="1242000" cy="365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7" idx="2"/>
              <a:endCxn id="125" idx="0"/>
            </p:cNvCxnSpPr>
            <p:nvPr/>
          </p:nvCxnSpPr>
          <p:spPr>
            <a:xfrm flipH="1">
              <a:off x="5954400" y="3160800"/>
              <a:ext cx="53280" cy="505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6" idx="2"/>
            </p:cNvCxnSpPr>
            <p:nvPr/>
          </p:nvCxnSpPr>
          <p:spPr>
            <a:xfrm>
              <a:off x="7248600" y="2398680"/>
              <a:ext cx="1037520" cy="745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1" name=""/>
            <p:cNvSpPr/>
            <p:nvPr/>
          </p:nvSpPr>
          <p:spPr>
            <a:xfrm>
              <a:off x="6078600" y="1542960"/>
              <a:ext cx="201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484"/>
                  </a:solidFill>
                  <a:latin typeface="Arial"/>
                </a:rPr>
                <a:t>www.yahoo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32840" y="3203640"/>
              <a:ext cx="167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Design 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80440" y="6070680"/>
              <a:ext cx="139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Baro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2760" y="4056120"/>
              <a:ext cx="177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4" idx="2"/>
              <a:endCxn id="136" idx="0"/>
            </p:cNvCxnSpPr>
            <p:nvPr/>
          </p:nvCxnSpPr>
          <p:spPr>
            <a:xfrm>
              <a:off x="8123400" y="4452480"/>
              <a:ext cx="10080" cy="63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2" idx="2"/>
            </p:cNvCxnSpPr>
            <p:nvPr/>
          </p:nvCxnSpPr>
          <p:spPr>
            <a:xfrm>
              <a:off x="8169480" y="3600360"/>
              <a:ext cx="8640" cy="456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6" name=""/>
            <p:cNvSpPr/>
            <p:nvPr/>
          </p:nvSpPr>
          <p:spPr>
            <a:xfrm>
              <a:off x="7547040" y="5083200"/>
              <a:ext cx="117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His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36" idx="2"/>
            </p:cNvCxnSpPr>
            <p:nvPr/>
          </p:nvCxnSpPr>
          <p:spPr>
            <a:xfrm>
              <a:off x="8132400" y="5479920"/>
              <a:ext cx="10440" cy="635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2529000" y="5996160"/>
            <a:ext cx="4989240" cy="537120"/>
            <a:chOff x="2529000" y="5996160"/>
            <a:chExt cx="4989240" cy="537120"/>
          </a:xfrm>
        </p:grpSpPr>
        <p:sp>
          <p:nvSpPr>
            <p:cNvPr id="140" name=""/>
            <p:cNvSpPr/>
            <p:nvPr/>
          </p:nvSpPr>
          <p:spPr>
            <a:xfrm>
              <a:off x="2529000" y="5996160"/>
              <a:ext cx="4989240" cy="470880"/>
            </a:xfrm>
            <a:custGeom>
              <a:avLst/>
              <a:gdLst/>
              <a:ahLst/>
              <a:rect l="l" t="t" r="r" b="b"/>
              <a:pathLst>
                <a:path w="3195" h="401">
                  <a:moveTo>
                    <a:pt x="0" y="0"/>
                  </a:moveTo>
                  <a:cubicBezTo>
                    <a:pt x="206" y="61"/>
                    <a:pt x="710" y="333"/>
                    <a:pt x="1242" y="367"/>
                  </a:cubicBezTo>
                  <a:cubicBezTo>
                    <a:pt x="1774" y="401"/>
                    <a:pt x="2788" y="236"/>
                    <a:pt x="3195" y="20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35760" y="6127560"/>
              <a:ext cx="911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99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=0.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565360" y="5295960"/>
            <a:ext cx="4927680" cy="890640"/>
            <a:chOff x="2565360" y="5295960"/>
            <a:chExt cx="4927680" cy="890640"/>
          </a:xfrm>
        </p:grpSpPr>
        <p:sp>
          <p:nvSpPr>
            <p:cNvPr id="143" name=""/>
            <p:cNvSpPr/>
            <p:nvPr/>
          </p:nvSpPr>
          <p:spPr>
            <a:xfrm>
              <a:off x="2565360" y="5662440"/>
              <a:ext cx="4927680" cy="524160"/>
            </a:xfrm>
            <a:custGeom>
              <a:avLst/>
              <a:gdLst/>
              <a:ahLst/>
              <a:rect l="l" t="t" r="r" b="b"/>
              <a:pathLst>
                <a:path w="3104" h="330">
                  <a:moveTo>
                    <a:pt x="0" y="143"/>
                  </a:moveTo>
                  <a:cubicBezTo>
                    <a:pt x="239" y="125"/>
                    <a:pt x="919" y="0"/>
                    <a:pt x="1436" y="31"/>
                  </a:cubicBezTo>
                  <a:cubicBezTo>
                    <a:pt x="1953" y="62"/>
                    <a:pt x="2757" y="268"/>
                    <a:pt x="3104" y="33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4200" y="5295960"/>
              <a:ext cx="8553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8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={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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633840" y="3938760"/>
            <a:ext cx="2327400" cy="423720"/>
            <a:chOff x="3633840" y="3938760"/>
            <a:chExt cx="2327400" cy="423720"/>
          </a:xfrm>
        </p:grpSpPr>
        <p:sp>
          <p:nvSpPr>
            <p:cNvPr id="146" name=""/>
            <p:cNvSpPr/>
            <p:nvPr/>
          </p:nvSpPr>
          <p:spPr>
            <a:xfrm>
              <a:off x="3633840" y="4060800"/>
              <a:ext cx="2327400" cy="301680"/>
            </a:xfrm>
            <a:custGeom>
              <a:avLst/>
              <a:gdLst/>
              <a:ahLst/>
              <a:rect l="l" t="t" r="r" b="b"/>
              <a:pathLst>
                <a:path w="1466" h="190">
                  <a:moveTo>
                    <a:pt x="0" y="15"/>
                  </a:moveTo>
                  <a:cubicBezTo>
                    <a:pt x="116" y="44"/>
                    <a:pt x="452" y="190"/>
                    <a:pt x="696" y="187"/>
                  </a:cubicBezTo>
                  <a:cubicBezTo>
                    <a:pt x="940" y="184"/>
                    <a:pt x="1306" y="39"/>
                    <a:pt x="1466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03800" y="3938760"/>
              <a:ext cx="912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99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=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776760" y="3156120"/>
            <a:ext cx="2136600" cy="680040"/>
            <a:chOff x="3776760" y="3156120"/>
            <a:chExt cx="2136600" cy="680040"/>
          </a:xfrm>
        </p:grpSpPr>
        <p:sp>
          <p:nvSpPr>
            <p:cNvPr id="149" name=""/>
            <p:cNvSpPr/>
            <p:nvPr/>
          </p:nvSpPr>
          <p:spPr>
            <a:xfrm>
              <a:off x="3776760" y="3508200"/>
              <a:ext cx="2136600" cy="268560"/>
            </a:xfrm>
            <a:custGeom>
              <a:avLst/>
              <a:gdLst/>
              <a:ahLst/>
              <a:rect l="l" t="t" r="r" b="b"/>
              <a:pathLst>
                <a:path w="1346" h="169">
                  <a:moveTo>
                    <a:pt x="0" y="146"/>
                  </a:moveTo>
                  <a:cubicBezTo>
                    <a:pt x="112" y="122"/>
                    <a:pt x="449" y="0"/>
                    <a:pt x="673" y="4"/>
                  </a:cubicBezTo>
                  <a:cubicBezTo>
                    <a:pt x="897" y="8"/>
                    <a:pt x="1206" y="135"/>
                    <a:pt x="1346" y="169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16480" y="3156120"/>
              <a:ext cx="8557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8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={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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332080" y="3122640"/>
            <a:ext cx="5256000" cy="2197080"/>
            <a:chOff x="2332080" y="3122640"/>
            <a:chExt cx="5256000" cy="2197080"/>
          </a:xfrm>
        </p:grpSpPr>
        <p:sp>
          <p:nvSpPr>
            <p:cNvPr id="152" name=""/>
            <p:cNvSpPr/>
            <p:nvPr/>
          </p:nvSpPr>
          <p:spPr>
            <a:xfrm>
              <a:off x="2332080" y="3122640"/>
              <a:ext cx="5256000" cy="2197080"/>
            </a:xfrm>
            <a:custGeom>
              <a:avLst/>
              <a:gdLst/>
              <a:ahLst/>
              <a:rect l="l" t="t" r="r" b="b"/>
              <a:pathLst>
                <a:path w="3311" h="1384">
                  <a:moveTo>
                    <a:pt x="401" y="0"/>
                  </a:moveTo>
                  <a:cubicBezTo>
                    <a:pt x="351" y="109"/>
                    <a:pt x="0" y="458"/>
                    <a:pt x="102" y="651"/>
                  </a:cubicBezTo>
                  <a:cubicBezTo>
                    <a:pt x="204" y="844"/>
                    <a:pt x="480" y="1038"/>
                    <a:pt x="1015" y="1160"/>
                  </a:cubicBezTo>
                  <a:cubicBezTo>
                    <a:pt x="1550" y="1282"/>
                    <a:pt x="2833" y="1337"/>
                    <a:pt x="3311" y="1384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59160" y="4699080"/>
              <a:ext cx="892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8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={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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656B-623F-4067-BFA6-31FA4339AB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2600" y="1770120"/>
            <a:ext cx="806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is an operator that takes two graph-like structures (e.g., database schemas or ontologies) and produces a mapping between elements of the two graphs that correspond semantically to each other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A168-AFC4-4005-A40D-6EACCFA48E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Matching 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79240" y="1380600"/>
            <a:ext cx="790092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484"/>
                </a:solidFill>
                <a:latin typeface="Arial"/>
              </a:rPr>
              <a:t>The problem of matching can be decomposed in two steps: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Extract graphs from the data and conceptual model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Match the resulting graphs (generic matching)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FF67-8BB9-4D30-85CB-3BF9859E4C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4640" y="1730520"/>
            <a:ext cx="785664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86480" indent="-1864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 element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a 4-tuple 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lt;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m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D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N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N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R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gt;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8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m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D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a unique identifier of the given mapping element;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N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-th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first graph,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N</a:t>
            </a:r>
            <a:r>
              <a:rPr b="1" i="1" lang="en-US" sz="2000" spc="-1" strike="noStrike" baseline="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j-th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second graph,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R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specifies a 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similarity relation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of the given node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60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86480" indent="-1864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</a:t>
            </a:r>
            <a:r>
              <a:rPr b="1" i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is a set of mapping element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86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86480" indent="-1864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ching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is the process of discovering mappings between two graphs through the application of a matching algorithm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E561-C7B6-4E2A-8412-97EF2E590F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440000" y="2139840"/>
            <a:ext cx="7354800" cy="2069280"/>
            <a:chOff x="1440000" y="2139840"/>
            <a:chExt cx="7354800" cy="2069280"/>
          </a:xfrm>
        </p:grpSpPr>
        <p:sp>
          <p:nvSpPr>
            <p:cNvPr id="161" name=""/>
            <p:cNvSpPr/>
            <p:nvPr/>
          </p:nvSpPr>
          <p:spPr>
            <a:xfrm>
              <a:off x="4689720" y="2547720"/>
              <a:ext cx="169920" cy="169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57840" y="2139840"/>
              <a:ext cx="168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00360" y="3568320"/>
              <a:ext cx="169920" cy="169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28040" y="3565440"/>
              <a:ext cx="169920" cy="169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42200" y="3749400"/>
              <a:ext cx="32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Seman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0000" y="3725640"/>
              <a:ext cx="315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ahoma"/>
                </a:rPr>
                <a:t>Syntac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886120" y="2715840"/>
              <a:ext cx="1818000" cy="83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35880" y="2715840"/>
              <a:ext cx="1854000" cy="86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467000" y="4295880"/>
            <a:ext cx="2993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mputed betwee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labe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 = {x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0,1]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4160" y="4281480"/>
            <a:ext cx="3579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computed between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concep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 = { =, 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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, 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800000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8420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Matching: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yntactic</a:t>
            </a: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</a:t>
            </a: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C2FE-8765-4B44-ADA7-43C625B9B9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0:33:46Z</dcterms:created>
  <dc:creator>luca</dc:creator>
  <dc:description/>
  <dc:language>en-US</dc:language>
  <cp:lastModifiedBy>server 9</cp:lastModifiedBy>
  <dcterms:modified xsi:type="dcterms:W3CDTF">2003-11-13T21:29:38Z</dcterms:modified>
  <cp:revision>354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1148022</vt:r8>
  </property>
  <property fmtid="{D5CDD505-2E9C-101B-9397-08002B2CF9AE}" pid="3" name="_AuthorEmail">
    <vt:lpwstr>ilya@dit.unitn.it</vt:lpwstr>
  </property>
  <property fmtid="{D5CDD505-2E9C-101B-9397-08002B2CF9AE}" pid="4" name="_AuthorEmailDisplayName">
    <vt:lpwstr>Ilya Zaihrayeu</vt:lpwstr>
  </property>
  <property fmtid="{D5CDD505-2E9C-101B-9397-08002B2CF9AE}" pid="5" name="_EmailSubject">
    <vt:lpwstr>CIA slides</vt:lpwstr>
  </property>
  <property fmtid="{D5CDD505-2E9C-101B-9397-08002B2CF9AE}" pid="6" name="_ReviewingToolsShownOnce">
    <vt:lpwstr/>
  </property>
</Properties>
</file>